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953521"/>
        <c:axId val="75774929"/>
      </c:barChart>
      <c:catAx>
        <c:axId val="35953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74929"/>
        <c:crosses val="autoZero"/>
        <c:auto val="1"/>
        <c:lblAlgn val="ctr"/>
        <c:lblOffset val="100"/>
        <c:noMultiLvlLbl val="0"/>
      </c:catAx>
      <c:valAx>
        <c:axId val="75774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53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25A-4EF4-46E0-9D4F-157773D6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6FE-507C-4C51-992B-E15F3E79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FBE-E7B6-40F0-9A03-A95F4ED9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E86-10D2-4DD2-9BD5-6CE558C7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F0C-1B7D-4C96-9511-D21B8B8B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D87-4A75-47F4-BA7A-3F98E8BD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0F9-CC98-40D2-B2C2-60049B2A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B72-B0D1-4553-A74B-A2514FF5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896-1748-4482-89E4-90222D29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508-373B-404D-A1E5-FD2F33CE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EC8-5734-454B-872A-07471AF7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0483-A2C1-4CE9-A02D-B564E430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C5511-B42C-4C04-B12C-445B9B52DB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